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E1C3-EFF1-4717-8E17-3E1C75C0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59FA-474D-43FF-BB16-2FB7A9EB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BAD-564C-4673-96EB-1BDE645F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506-8274-4F48-9D10-91675DAD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06DD-20FD-4900-8143-412EF06A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00F3-06CB-4C4C-9BDE-28A4D993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99B6-C319-4271-9508-3565DBCF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1C54-DC37-441D-8DF2-9C79A112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4FD9-45AA-484C-9468-CA688A39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EC98-2FB7-4974-B4E4-31BBA29C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A4EC-1852-42B4-9911-26FB158F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806D-DBF6-4352-98BF-957EF023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044F-2C02-4277-877D-F885BC1A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ABFB-A39B-43D0-85E2-3FF169DE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BAF2-FF8B-4F7E-9AE0-428BF0B4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D5D5-C478-4378-A403-B6C0FBD7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D276-C47B-4CDC-A0BB-F56B6ACF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0483A-28FE-42BD-B5B9-98A7D655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32E9E-FA74-4E34-A814-BF97296D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DF97D-BD77-4146-ABF6-6F837DE2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B40CF-F5E7-4BD8-8909-BFAEA5B1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FEB35-AAC5-4796-8D7F-8AE5F567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4605-9037-44ED-9BA5-A2AB4900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8359D-0C93-47BA-958B-D0C2B9FE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AB738-DC25-4BF0-9CD0-12054136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4D226-D500-4B3C-B18F-847929FA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86C59-08EF-4282-82BB-21805CA2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F7269-2136-41C7-B26E-52C6D055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E316B-068D-4AC0-9D08-32A7EA15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A8B0E-C6C7-433F-8DB6-5D01FE77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92D1-3D25-41D6-ACBE-61B52D02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9E48-2997-4E87-9C82-12C96911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716F-0A14-4E38-A475-4552E838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4ACC-B356-46A7-AB5B-39D7335D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914A-15F8-43C0-B4A2-BBFD8EEC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F2CF-DB83-4EDF-AE84-CFF4DE81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412D-1DB1-4BCA-AAE5-106B08011987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0EB3-248A-4BDE-92A5-F1A28497BF6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99"/>
            </a:gs>
            <a:gs pos="100000">
              <a:srgbClr val="fbfb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4F06-5153-4D66-9943-8C4CED524563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002240" y="1153080"/>
            <a:ext cx="7596720" cy="1527840"/>
          </a:xfrm>
          <a:prstGeom prst="rect">
            <a:avLst/>
          </a:prstGeom>
          <a:gradFill rotWithShape="0">
            <a:gsLst>
              <a:gs pos="0">
                <a:srgbClr val="fbfbe3"/>
              </a:gs>
              <a:gs pos="100000">
                <a:srgbClr val="99cc99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TEMA 2: Sistemas de Representación: Aco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643280" y="3071880"/>
            <a:ext cx="40132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ESO 3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TECNOLOG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929160" y="929160"/>
            <a:ext cx="758988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Normas de Aco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106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No debe omitirse ninguna cota.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8" name="Object 9"/>
          <p:cNvGraphicFramePr/>
          <p:nvPr/>
        </p:nvGraphicFramePr>
        <p:xfrm>
          <a:off x="1908000" y="3789360"/>
          <a:ext cx="431964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789360"/>
                    <a:ext cx="431964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Rectangle 12"/>
          <p:cNvSpPr/>
          <p:nvPr/>
        </p:nvSpPr>
        <p:spPr>
          <a:xfrm>
            <a:off x="5537160" y="4797360"/>
            <a:ext cx="1440000" cy="16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Normas de Aco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1447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Las cotas se situarán PREFERENTEMENTE en el exterior de la piez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Se admitirá el situarlas en el interior, siempre que no se pierda claridad en el dibujo.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3" name="Object 6"/>
          <p:cNvGraphicFramePr/>
          <p:nvPr/>
        </p:nvGraphicFramePr>
        <p:xfrm>
          <a:off x="3494160" y="3973680"/>
          <a:ext cx="4462560" cy="28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4160" y="3973680"/>
                    <a:ext cx="446256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5" name="Group 9"/>
          <p:cNvGrpSpPr/>
          <p:nvPr/>
        </p:nvGrpSpPr>
        <p:grpSpPr>
          <a:xfrm>
            <a:off x="5969160" y="4005360"/>
            <a:ext cx="807480" cy="865080"/>
            <a:chOff x="5969160" y="4005360"/>
            <a:chExt cx="807480" cy="865080"/>
          </a:xfrm>
        </p:grpSpPr>
        <p:sp>
          <p:nvSpPr>
            <p:cNvPr id="196" name="Rectangle 7"/>
            <p:cNvSpPr/>
            <p:nvPr/>
          </p:nvSpPr>
          <p:spPr>
            <a:xfrm>
              <a:off x="5969160" y="4005360"/>
              <a:ext cx="54756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Rectangle 8"/>
            <p:cNvSpPr/>
            <p:nvPr/>
          </p:nvSpPr>
          <p:spPr>
            <a:xfrm>
              <a:off x="6229080" y="4033800"/>
              <a:ext cx="54756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8" name="Group 12"/>
          <p:cNvGrpSpPr/>
          <p:nvPr/>
        </p:nvGrpSpPr>
        <p:grpSpPr>
          <a:xfrm>
            <a:off x="5870520" y="6092640"/>
            <a:ext cx="1224000" cy="360720"/>
            <a:chOff x="5870520" y="6092640"/>
            <a:chExt cx="1224000" cy="360720"/>
          </a:xfrm>
        </p:grpSpPr>
        <p:sp>
          <p:nvSpPr>
            <p:cNvPr id="199" name="Line 10"/>
            <p:cNvSpPr/>
            <p:nvPr/>
          </p:nvSpPr>
          <p:spPr>
            <a:xfrm>
              <a:off x="5870520" y="6164640"/>
              <a:ext cx="1224000" cy="288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Line 11"/>
            <p:cNvSpPr/>
            <p:nvPr/>
          </p:nvSpPr>
          <p:spPr>
            <a:xfrm flipV="1">
              <a:off x="5870520" y="6092640"/>
              <a:ext cx="1081080" cy="3603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aphicFrame>
        <p:nvGraphicFramePr>
          <p:cNvPr id="201" name="Object 13"/>
          <p:cNvGraphicFramePr/>
          <p:nvPr/>
        </p:nvGraphicFramePr>
        <p:xfrm>
          <a:off x="900000" y="4149720"/>
          <a:ext cx="2519640" cy="25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149720"/>
                    <a:ext cx="251964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Normas de Aco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28720" y="3716280"/>
            <a:ext cx="4248000" cy="1440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s líneas de cota no pueden unir las vistas de un objeto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5076720" y="2644920"/>
          <a:ext cx="3816360" cy="36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2644920"/>
                    <a:ext cx="3816360" cy="36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7" name="Group 8"/>
          <p:cNvGrpSpPr/>
          <p:nvPr/>
        </p:nvGrpSpPr>
        <p:grpSpPr>
          <a:xfrm>
            <a:off x="7237440" y="3499920"/>
            <a:ext cx="503280" cy="1297080"/>
            <a:chOff x="7237440" y="3499920"/>
            <a:chExt cx="503280" cy="1297080"/>
          </a:xfrm>
        </p:grpSpPr>
        <p:sp>
          <p:nvSpPr>
            <p:cNvPr id="208" name="Line 6"/>
            <p:cNvSpPr/>
            <p:nvPr/>
          </p:nvSpPr>
          <p:spPr>
            <a:xfrm flipH="1">
              <a:off x="7237440" y="3573360"/>
              <a:ext cx="432000" cy="1150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 flipH="1" flipV="1">
              <a:off x="7237440" y="3499920"/>
              <a:ext cx="503280" cy="1297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jemplos de aco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876240" y="2362320"/>
            <a:ext cx="3692520" cy="3724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"/>
          <p:cNvPicPr/>
          <p:nvPr/>
        </p:nvPicPr>
        <p:blipFill>
          <a:blip r:embed="rId2"/>
          <a:stretch/>
        </p:blipFill>
        <p:spPr>
          <a:xfrm>
            <a:off x="4761000" y="2460600"/>
            <a:ext cx="3770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jemplos de aco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3662640" cy="3316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2"/>
          <a:stretch/>
        </p:blipFill>
        <p:spPr>
          <a:xfrm>
            <a:off x="4716360" y="2940120"/>
            <a:ext cx="405936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 Aco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Text Box 117"/>
          <p:cNvSpPr/>
          <p:nvPr/>
        </p:nvSpPr>
        <p:spPr>
          <a:xfrm>
            <a:off x="900000" y="2349360"/>
            <a:ext cx="8147160" cy="9471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COTAR: es poner las </a:t>
            </a:r>
            <a:r>
              <a:rPr b="1" i="1" lang="es-ES" sz="2800" spc="-1" strike="noStrike">
                <a:solidFill>
                  <a:srgbClr val="003366"/>
                </a:solidFill>
                <a:latin typeface="Arial"/>
              </a:rPr>
              <a:t>dimensiones reale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de un objeto siguiendo una serie de nor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119" descr="clasificacion2"/>
          <p:cNvPicPr/>
          <p:nvPr/>
        </p:nvPicPr>
        <p:blipFill>
          <a:blip r:embed="rId1"/>
          <a:stretch/>
        </p:blipFill>
        <p:spPr>
          <a:xfrm>
            <a:off x="2411280" y="3427560"/>
            <a:ext cx="4969080" cy="32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929160" y="929160"/>
            <a:ext cx="758988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lementos de una aco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Picture 4" descr="elementos"/>
          <p:cNvPicPr/>
          <p:nvPr/>
        </p:nvPicPr>
        <p:blipFill>
          <a:blip r:embed="rId1"/>
          <a:stretch/>
        </p:blipFill>
        <p:spPr>
          <a:xfrm>
            <a:off x="826920" y="2852640"/>
            <a:ext cx="3889440" cy="28018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4859280" y="249228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Línea auxiliar de cota: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Línea fina que delimita los extremos de la medida. Sobresale 2 m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859280" y="344808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Final de cota: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Flechas, delimitan la medida. Se colocan en los extremos de la línea de cot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859280" y="440388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ifra de Cota: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Número que indica la longitud real de la medida acotad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4859280" y="5084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Línea de Cota: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Línea fina paralela a la arista que se quiere medi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788000" y="587700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ímbolos: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se colocan delante de la cifra de cota, permiten ahorrar vista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Normas de Aco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817560" y="2852640"/>
            <a:ext cx="8147160" cy="2775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Una pieza está bien acotada cuando el número de cotas utilizadas son las </a:t>
            </a: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mínima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suficiente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y </a:t>
            </a: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adecuadas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ra fabricar dicha piez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Una acotación debe quedar estéticamente agrad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929160" y="929160"/>
            <a:ext cx="758988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Normas de Aco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5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o se utilizarán las aristas como líneas de co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2" name="Object 6"/>
          <p:cNvGraphicFramePr/>
          <p:nvPr/>
        </p:nvGraphicFramePr>
        <p:xfrm>
          <a:off x="1547640" y="4005360"/>
          <a:ext cx="2519640" cy="18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005360"/>
                    <a:ext cx="25196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8"/>
          <p:cNvGraphicFramePr/>
          <p:nvPr/>
        </p:nvGraphicFramePr>
        <p:xfrm>
          <a:off x="5292720" y="3789360"/>
          <a:ext cx="2232000" cy="20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3789360"/>
                    <a:ext cx="223200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Group 9"/>
          <p:cNvGrpSpPr/>
          <p:nvPr/>
        </p:nvGrpSpPr>
        <p:grpSpPr>
          <a:xfrm>
            <a:off x="2050920" y="4581000"/>
            <a:ext cx="1800000" cy="289080"/>
            <a:chOff x="2050920" y="4581000"/>
            <a:chExt cx="1800000" cy="289080"/>
          </a:xfrm>
        </p:grpSpPr>
        <p:sp>
          <p:nvSpPr>
            <p:cNvPr id="157" name="Line 10"/>
            <p:cNvSpPr/>
            <p:nvPr/>
          </p:nvSpPr>
          <p:spPr>
            <a:xfrm>
              <a:off x="2050920" y="4638600"/>
              <a:ext cx="1800000" cy="2314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Line 11"/>
            <p:cNvSpPr/>
            <p:nvPr/>
          </p:nvSpPr>
          <p:spPr>
            <a:xfrm flipV="1">
              <a:off x="2050920" y="4581000"/>
              <a:ext cx="1589760" cy="2890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929160" y="929160"/>
            <a:ext cx="758988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Normas de Aco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5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línea de cota estará separada de la arista del dibujo aproximadamente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8 m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1332000" y="4365720"/>
          <a:ext cx="2448000" cy="18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365720"/>
                    <a:ext cx="244800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Group 5"/>
          <p:cNvGrpSpPr/>
          <p:nvPr/>
        </p:nvGrpSpPr>
        <p:grpSpPr>
          <a:xfrm>
            <a:off x="1692360" y="4795920"/>
            <a:ext cx="1799640" cy="288720"/>
            <a:chOff x="1692360" y="4795920"/>
            <a:chExt cx="1799640" cy="288720"/>
          </a:xfrm>
        </p:grpSpPr>
        <p:sp>
          <p:nvSpPr>
            <p:cNvPr id="164" name="Line 6"/>
            <p:cNvSpPr/>
            <p:nvPr/>
          </p:nvSpPr>
          <p:spPr>
            <a:xfrm>
              <a:off x="1692360" y="4853160"/>
              <a:ext cx="1799640" cy="231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 flipV="1">
              <a:off x="1692360" y="4795920"/>
              <a:ext cx="1589400" cy="288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aphicFrame>
        <p:nvGraphicFramePr>
          <p:cNvPr id="166" name="Object 10"/>
          <p:cNvGraphicFramePr/>
          <p:nvPr/>
        </p:nvGraphicFramePr>
        <p:xfrm>
          <a:off x="5580000" y="4292640"/>
          <a:ext cx="2305080" cy="18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4292640"/>
                    <a:ext cx="23050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929160" y="929160"/>
            <a:ext cx="758988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Normas de Aco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5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línea de cota estará separada de otra línea de cota aproximadamente 5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 m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0" name="Object 5"/>
          <p:cNvGraphicFramePr/>
          <p:nvPr/>
        </p:nvGraphicFramePr>
        <p:xfrm>
          <a:off x="2556000" y="3860640"/>
          <a:ext cx="3600360" cy="22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3860640"/>
                    <a:ext cx="3600360" cy="22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929160" y="929160"/>
            <a:ext cx="758988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cifras de cota se colocará sobre la línea de cota indicando la longitud en mm, pero sin poner la un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4" name="Object 9"/>
          <p:cNvGraphicFramePr/>
          <p:nvPr/>
        </p:nvGraphicFramePr>
        <p:xfrm>
          <a:off x="2629080" y="4282920"/>
          <a:ext cx="4967280" cy="23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9080" y="4282920"/>
                    <a:ext cx="496728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Group 6"/>
          <p:cNvGrpSpPr/>
          <p:nvPr/>
        </p:nvGrpSpPr>
        <p:grpSpPr>
          <a:xfrm>
            <a:off x="5087880" y="4484160"/>
            <a:ext cx="863640" cy="203760"/>
            <a:chOff x="5087880" y="4484160"/>
            <a:chExt cx="863640" cy="203760"/>
          </a:xfrm>
        </p:grpSpPr>
        <p:sp>
          <p:nvSpPr>
            <p:cNvPr id="177" name="Line 7"/>
            <p:cNvSpPr/>
            <p:nvPr/>
          </p:nvSpPr>
          <p:spPr>
            <a:xfrm>
              <a:off x="5087880" y="4524840"/>
              <a:ext cx="863640" cy="1630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 flipV="1">
              <a:off x="5087880" y="4484160"/>
              <a:ext cx="762840" cy="2034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29160" y="929160"/>
            <a:ext cx="758988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Normas de Aco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81000" y="3298320"/>
            <a:ext cx="4670640" cy="1930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Una cota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solo se indicará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una sola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vez en un dibujo, salvo que sea indispensable repetirl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6012000" y="2708280"/>
          <a:ext cx="216036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2708280"/>
                    <a:ext cx="21603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3" name="Group 9"/>
          <p:cNvGrpSpPr/>
          <p:nvPr/>
        </p:nvGrpSpPr>
        <p:grpSpPr>
          <a:xfrm>
            <a:off x="6299280" y="5084280"/>
            <a:ext cx="1657440" cy="432000"/>
            <a:chOff x="6299280" y="5084280"/>
            <a:chExt cx="1657440" cy="432000"/>
          </a:xfrm>
        </p:grpSpPr>
        <p:sp>
          <p:nvSpPr>
            <p:cNvPr id="184" name="Line 7"/>
            <p:cNvSpPr/>
            <p:nvPr/>
          </p:nvSpPr>
          <p:spPr>
            <a:xfrm flipV="1">
              <a:off x="6299280" y="5084280"/>
              <a:ext cx="1584360" cy="431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>
              <a:off x="6372360" y="5084640"/>
              <a:ext cx="1584360" cy="431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21:17:30Z</dcterms:created>
  <dc:creator>MCM</dc:creator>
  <dc:description/>
  <dc:language>en-US</dc:language>
  <cp:lastModifiedBy>consuelo gonzalez rodriguez</cp:lastModifiedBy>
  <dcterms:modified xsi:type="dcterms:W3CDTF">2013-02-24T20:42:41Z</dcterms:modified>
  <cp:revision>20</cp:revision>
  <dc:subject/>
  <dc:title>TEMA 2: Sistemas de Representación</dc:title>
</cp:coreProperties>
</file>