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2597-855B-49D7-93CA-0B07208B1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4C10-E907-4B92-9A41-A8B3D43A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2475-7405-467D-8B17-D2F018DB6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5071-40B2-4D5E-AA66-D72E0F9E7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AF7A-87F4-4CFA-B03C-97721A01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58FC-E0CF-4F45-A009-5976EB27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8820-B29E-4EAA-A83A-B4D7A740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714C-8992-4137-A846-AC6776BB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D18C-7DAB-4222-A501-08C9A7FE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2C93-8443-4AE4-81A8-50A34436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5BAE-115B-4AA6-B9DC-C151E3E0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E646-A446-4F63-978B-BB44293A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9643-C402-406F-A255-C96EF357F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1280" y="928800"/>
            <a:ext cx="900144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784080"/>
            <a:ext cx="8229600" cy="48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784080"/>
            <a:ext cx="8229600" cy="48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62240" y="274680"/>
            <a:ext cx="641952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43280" y="324000"/>
            <a:ext cx="5257800" cy="57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330200" y="274680"/>
            <a:ext cx="6483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30T17:20:21Z</dcterms:created>
  <dc:creator>lisboa</dc:creator>
  <dc:description/>
  <dc:language>en-US</dc:language>
  <cp:lastModifiedBy>lisboa</cp:lastModifiedBy>
  <dcterms:modified xsi:type="dcterms:W3CDTF">2020-11-30T17:23:26Z</dcterms:modified>
  <cp:revision>1</cp:revision>
  <dc:subject/>
  <dc:title>Diapositiva 1</dc:title>
</cp:coreProperties>
</file>